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75E-E446-4868-AD42-800C4214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75D-77C0-451C-A46A-BDBA303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14A-37E8-4716-BC06-CDE82B32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B3F-BA83-4F31-9E2C-5490C2CD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EA5-8739-44C5-AAD5-BA907289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B6D-B865-4B51-A7E6-1CA63262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AB2-9893-464C-BB52-2D12E230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7AE-4D01-4A70-B094-93CC495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569-8586-41ED-A33C-2F2EF688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19B-C236-4D1E-8A54-F25A5F3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422-3F2B-4209-8ACE-A5B5A44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7AB-7842-4EA2-817B-91EB333C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1AB9-F4AB-404B-897D-01FDC6FD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Multiple Forces with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905120" y="18288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609480" y="1981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533520" y="2362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2666880" y="1522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743200" y="762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58128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irection and magnitude of the acceleration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8120" y="34290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 flipV="1">
            <a:off x="4038480" y="327636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H="1" flipV="1">
            <a:off x="2285640" y="259092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3962520" y="4038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053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7242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9718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2860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irection and magnitude of the acceleration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ant_walking_to_job_site_md_clr"/>
          <p:cNvPicPr/>
          <p:nvPr/>
        </p:nvPicPr>
        <p:blipFill>
          <a:blip r:embed="rId1"/>
          <a:stretch/>
        </p:blipFill>
        <p:spPr>
          <a:xfrm>
            <a:off x="236232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Jimmy_running_md_wht"/>
          <p:cNvPicPr/>
          <p:nvPr/>
        </p:nvPicPr>
        <p:blipFill>
          <a:blip r:embed="rId2"/>
          <a:stretch/>
        </p:blipFill>
        <p:spPr>
          <a:xfrm>
            <a:off x="6515280" y="4229280"/>
            <a:ext cx="2628720" cy="262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palas_atenea_sculpture_blink_md_wht"/>
          <p:cNvPicPr/>
          <p:nvPr/>
        </p:nvPicPr>
        <p:blipFill>
          <a:blip r:embed="rId3"/>
          <a:stretch/>
        </p:blipFill>
        <p:spPr>
          <a:xfrm>
            <a:off x="4419720" y="228600"/>
            <a:ext cx="1725480" cy="269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penguin_dance_md_wht"/>
          <p:cNvPicPr/>
          <p:nvPr/>
        </p:nvPicPr>
        <p:blipFill>
          <a:blip r:embed="rId4"/>
          <a:stretch/>
        </p:blipFill>
        <p:spPr>
          <a:xfrm>
            <a:off x="3124080" y="4648320"/>
            <a:ext cx="105120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0" y="152280"/>
            <a:ext cx="449568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cartoon creatures are trying to pull a statue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phically find the resultant vector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 applies 100N@2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nguin 200N@2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ie Chan 300N@30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vector is whic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move, and which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3200040" y="2819520"/>
            <a:ext cx="198108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3809880" y="2819520"/>
            <a:ext cx="1371600" cy="24382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5181480" y="2819520"/>
            <a:ext cx="2438640" cy="26668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7924680" y="380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723888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8686800" y="762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7724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66294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76960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4120" y="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 flipH="1">
            <a:off x="4724280" y="45720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4571640" y="457200"/>
            <a:ext cx="1066680" cy="1752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5638680" y="457200"/>
            <a:ext cx="1981440" cy="2362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04920" y="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graphical vector addition to work, the arrows must be drawn at exactly the right angle using a protractor and must be drawn to scale (proportionally) using a ruler.  Check this drawing with a ruler and pro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4920" y="2743200"/>
            <a:ext cx="3200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1813"/>
                </a:solidFill>
                <a:latin typeface="Arial"/>
              </a:rPr>
              <a:t>The Ant applies 100N@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e Penguin 200N@2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Jackie Chan 300N@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334120" y="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 flipH="1">
            <a:off x="5638680" y="457200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H="1">
            <a:off x="4571640" y="457200"/>
            <a:ext cx="1066680" cy="1752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572000" y="2209680"/>
            <a:ext cx="1981080" cy="2362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5638680" y="4572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862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2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0384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3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3244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19920" y="2057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240N@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0" y="53352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ing the vecto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tip to tail”, regardless of the order, gives us the resul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5720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graphically  find how big this resultant 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1:36:40Z</dcterms:created>
  <dc:creator>SOCSD</dc:creator>
  <dc:description/>
  <dc:language>en-US</dc:language>
  <cp:lastModifiedBy>SOCSD User</cp:lastModifiedBy>
  <dcterms:modified xsi:type="dcterms:W3CDTF">2012-10-25T14:31:34Z</dcterms:modified>
  <cp:revision>3</cp:revision>
  <dc:subject/>
  <dc:title>Adding Multiple Forces that are not at right angles</dc:title>
</cp:coreProperties>
</file>